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164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28600" y="457200"/>
            <a:ext cx="6400800" cy="8077320"/>
            <a:chOff x="228600" y="457200"/>
            <a:chExt cx="6400800" cy="8077320"/>
          </a:xfrm>
        </p:grpSpPr>
        <p:grpSp>
          <p:nvGrpSpPr>
            <p:cNvPr id="40" name=""/>
            <p:cNvGrpSpPr/>
            <p:nvPr/>
          </p:nvGrpSpPr>
          <p:grpSpPr>
            <a:xfrm>
              <a:off x="228600" y="457200"/>
              <a:ext cx="6400800" cy="8077320"/>
              <a:chOff x="228600" y="457200"/>
              <a:chExt cx="6400800" cy="8077320"/>
            </a:xfrm>
          </p:grpSpPr>
          <p:sp>
            <p:nvSpPr>
              <p:cNvPr id="41" name=""/>
              <p:cNvSpPr/>
              <p:nvPr/>
            </p:nvSpPr>
            <p:spPr>
              <a:xfrm>
                <a:off x="228600" y="457200"/>
                <a:ext cx="6400800" cy="807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80880" y="5791320"/>
                <a:ext cx="6096240" cy="252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.S ARMY SOLDIER SUPPORT INSTITU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ACTICAL EXERCIS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SOLU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Prepare a Statement of Agent Officer’s Accou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Rounded MT Bold"/>
                  </a:rPr>
                  <a:t>(DD Form 108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3" name=""/>
            <p:cNvGraphicFramePr/>
            <p:nvPr/>
          </p:nvGraphicFramePr>
          <p:xfrm>
            <a:off x="2006640" y="2276640"/>
            <a:ext cx="2854440" cy="302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6640" y="2276640"/>
                      <a:ext cx="2854440" cy="30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"/>
          <p:cNvSpPr/>
          <p:nvPr/>
        </p:nvSpPr>
        <p:spPr>
          <a:xfrm>
            <a:off x="1506600" y="890640"/>
            <a:ext cx="38401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1800" y="698400"/>
            <a:ext cx="5257800" cy="76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Who should make a thorough investigation of a selected cashier to ensure that he/s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unquestionable integrity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_The Disbursing Officer or the deputy ag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Who appoints a  Cashie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e Disbursing Officer or the deputy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How is the letter of appointment for a cashier issu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Original and 2 cop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2b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15,575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2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1,25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2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b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16,0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c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7,28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3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600200" y="4481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81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914400" y="762120"/>
          <a:ext cx="3048120" cy="532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3048120" cy="53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676520" y="12193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1800" y="698400"/>
            <a:ext cx="52578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A, b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1,0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A, 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77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A, 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C, 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15,1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7C, 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8d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7,45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8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10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___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mount would go in block 12c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32,575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. What amount would go in block 12e of the DD Form 1081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$725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__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2520"/>
                <a:tab algn="l" pos="690480"/>
                <a:tab algn="r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10920" y="861048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57200" y="762120"/>
            <a:ext cx="2971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M. TONEY, CPT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4-56-98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NANCE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912) 767-12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838080"/>
            <a:ext cx="2971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 S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NANCE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 STEWART, GA 313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6668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,575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281952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,00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50532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00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44956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575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251460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,575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6668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,25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81952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,28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50532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3809880"/>
            <a:ext cx="990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,10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,45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4495680"/>
            <a:ext cx="99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25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257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5105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70866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70866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62485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JAN 20*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onotype Corsiva"/>
              </a:rPr>
              <a:t>I. M. TONEY CPT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62485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JAN 20*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onotype Corsiva"/>
              </a:rPr>
              <a:t>YOUR SIGN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0773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JAN 20*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onotype Corsiva"/>
              </a:rPr>
              <a:t>I. M. TONEY CPT, 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807732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 JAN 20*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onotype Corsiva"/>
              </a:rPr>
              <a:t>YOUR SIGN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8686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686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AD4C102/03.1312.0806.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6:53:03Z</dcterms:created>
  <dc:creator>Tamatha Perkins</dc:creator>
  <dc:description/>
  <dc:language>en-US</dc:language>
  <cp:lastModifiedBy>yvonne.godwin</cp:lastModifiedBy>
  <cp:lastPrinted>2001-04-19T16:45:00Z</cp:lastPrinted>
  <dcterms:modified xsi:type="dcterms:W3CDTF">2006-07-26T19:28:02Z</dcterms:modified>
  <cp:revision>70</cp:revision>
  <dc:subject/>
  <dc:title>No Slide Title</dc:title>
</cp:coreProperties>
</file>